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575-9BF6-481B-84BE-7710606C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7BE-0C73-4719-8B11-01757532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C77-CA0A-4320-AB3D-632AE7D9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FE8-DFA2-48DC-B238-E9548165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A20-69A0-4661-9779-787D97D8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84E-E4B1-40B7-A4CF-E3D37B49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17A0-CE83-4A37-9646-3CB3C80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EE14-4D8C-4122-81BE-26B1B77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4C8-C980-4E5A-B457-772C81C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6D95-73D2-417C-985E-8780E082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498-9AAD-440B-B30B-8C47BAD6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021-FF31-4086-88D2-5704269D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18C6-9139-456B-BAD7-A023A221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73A-0808-4873-B337-C8A5282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8CA3-89AF-452E-867C-624F42D1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042-F793-405F-93D2-3CAEE1F8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AA4E-8059-447D-A532-6C4A58EB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4F8-661E-4992-B2A3-421054EA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B3B-8EFC-429A-A90F-AC58F621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85F-9556-4476-B943-124E97D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418-CAA4-46AE-AD33-E7D05259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AC2-01C9-48B3-B07F-6336139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95A-EB5B-4AF5-A15A-EB9B0E8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9C5-75C6-49D9-8FF5-855895E7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A5E-859A-4B31-8740-C08DE317BC97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CE5-0C10-49D9-8E21-195B8921CA38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cab40"/>
              </a:buClr>
              <a:buSzPct val="4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l4e.wikispaces.com/Week+2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crel.org/compendium/browse.asp" TargetMode="External"/><Relationship Id="rId2" Type="http://schemas.openxmlformats.org/officeDocument/2006/relationships/hyperlink" Target="http://www.mcrel.org/compendium/browse.asp" TargetMode="External"/><Relationship Id="rId3" Type="http://schemas.openxmlformats.org/officeDocument/2006/relationships/hyperlink" Target="http://www.mcrel.org/compendium/browse.asp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Impact"/>
              </a:rPr>
              <a:t>Internet Literacy for Educators</a:t>
            </a:r>
            <a:endParaRPr b="0" lang="en-US" sz="48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11444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Cathy W. Dowd, Instructo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Wilkes Universit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ring 2011 – February 2, 2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ocial Bookmarking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km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551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Firefox &amp; Safari</a:t>
            </a:r>
            <a:endParaRPr b="0" i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vor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551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nternet Explorer</a:t>
            </a:r>
            <a:endParaRPr b="0" i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ici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i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6375" t="0" r="63753" b="10001"/>
          <a:stretch/>
        </p:blipFill>
        <p:spPr>
          <a:xfrm>
            <a:off x="6172200" y="533520"/>
            <a:ext cx="2597040" cy="586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b 2.0 Tools &amp; Team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ther &amp; M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my S. &amp; Shann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n &amp; Ste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sy &amp; Ku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en S. &amp; Megan 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m &amp; Christ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lissa, Amy H., and Ka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Jing or Xtranor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Edmoto or 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Glogster  or Toondo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Open Office or Prez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LiveBinder or JogtheWe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DropBox or Vo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d1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imes New Roman"/>
              </a:rPr>
              <a:t>VoiceThread or SlideSh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b 2.0 Presentation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werPoint or Key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ed on or before 2/15/2011 @ 4:00 p.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use in your class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f not applicable, how might others use it</a:t>
            </a:r>
            <a:endParaRPr b="0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uld it be blocked at your sch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registration requir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there a cost to use this t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s there an educator’s version</a:t>
            </a:r>
            <a:endParaRPr b="0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swer questions your might a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ading Assignmen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lan November’s Articl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How to access i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hat to do on the Wiki pag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When it is du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66032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Next Week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eptable Use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Bring your sample if you found it</a:t>
            </a:r>
            <a:endParaRPr b="0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be Photoshop Bas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reating header for your Web page</a:t>
            </a:r>
            <a:endParaRPr b="0" i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site design princip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gin curriculum Web 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to work together on Web 2.0 pres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ussion response on the Wiki due 2/13/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189"/>
                </a:solidFill>
                <a:latin typeface="Impact"/>
              </a:rPr>
              <a:t>Questions?</a:t>
            </a:r>
            <a:endParaRPr b="0" lang="en-US" sz="6600" spc="-1" strike="noStrike">
              <a:solidFill>
                <a:srgbClr val="ebd189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to Know the Wik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et Termin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et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ong Passw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S-S &amp; NETS-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cR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Bookmarking / Bookmarks / Favori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2.0 To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ing Assign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is Internet Literacy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901800"/>
            <a:ext cx="7657920" cy="5956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llabu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Class Wiki: http://il4e.wikispaces.com/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rcRect l="0" t="15337" r="4146" b="4075"/>
          <a:stretch/>
        </p:blipFill>
        <p:spPr>
          <a:xfrm>
            <a:off x="838080" y="1620720"/>
            <a:ext cx="8305920" cy="523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Internet Terminology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 discuss next week at the beginning of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4456" t="16666" r="2488" b="12965"/>
          <a:stretch/>
        </p:blipFill>
        <p:spPr>
          <a:xfrm>
            <a:off x="1143000" y="2362320"/>
            <a:ext cx="7848720" cy="4451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Internet Safety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Private Information to Your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be temp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sten to Your Instin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 the 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0879" t="18344" r="49799" b="14446"/>
          <a:stretch/>
        </p:blipFill>
        <p:spPr>
          <a:xfrm rot="476400">
            <a:off x="4876560" y="1294920"/>
            <a:ext cx="39243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trong Password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eight characters or m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use a word from diction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password of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numbers, capital &amp; lowercase le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odgers8 vs. uGOdojr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y 20 ques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tp://www.random-password.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tp://www.pctools.com/guides/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ISTE Standards vs. McREL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Educational Technology Standards for Students (NETS-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Educational Technology Standards for Teachers (NETS-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Times New Roman"/>
                <a:hlinkClick r:id="rId1"/>
              </a:rPr>
              <a:t>Mid-continent Research for Education and Learning (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Times New Roman"/>
                <a:hlinkClick r:id="rId2"/>
              </a:rPr>
              <a:t>McREL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Times New Roman"/>
                <a:hlinkClick r:id="rId3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5:58:36Z</dcterms:created>
  <dc:creator>Customer</dc:creator>
  <dc:description/>
  <dc:language>en-US</dc:language>
  <cp:lastModifiedBy>Customer</cp:lastModifiedBy>
  <dcterms:modified xsi:type="dcterms:W3CDTF">2011-02-16T20:57:19Z</dcterms:modified>
  <cp:revision>15</cp:revision>
  <dc:subject/>
  <dc:title>Slide 1</dc:title>
</cp:coreProperties>
</file>